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A735-0B03-400B-A2FC-4B5C882B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A603-AE66-4A13-92E1-6F769B1E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6C4-040A-48C3-90F2-666AEDBA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034-C45D-4E3B-97E3-A5CBD46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95E-5F6E-4062-BAC2-1746A696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111-7674-4AAF-9919-3AF43FC1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E38-9E42-4522-9D8F-5CBF0F35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596-CB64-42A0-B019-B78D373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5DA-1B92-4DE0-98A0-A5C8BC5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63A-7439-413C-8E16-532329C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87E3-7EB1-4A6A-A7AB-F896B8F3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4B2-3583-4608-9B08-AEAA5D87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052-295F-4023-9C48-4712E6AA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6C9-0AAC-44C1-89ED-0ADEFA9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CAD6-5723-4025-B921-B977C3023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19320" y="5335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mah Od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smah ode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smah ode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ola!  ¿cómo estas?  ¿Qué hac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4395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iffa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42900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i nombre es Asmah Ode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vivo en New York C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atorce añ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engo cuatro hermanos.yo amo la mus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2400" y="4645080"/>
            <a:ext cx="517320" cy="950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90640" y="464508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istain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i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5" descr="Photo on 2011-10-24 at 13.44.jpg"/>
          <p:cNvPicPr/>
          <p:nvPr/>
        </p:nvPicPr>
        <p:blipFill>
          <a:blip r:embed="rId3"/>
          <a:stretch/>
        </p:blipFill>
        <p:spPr>
          <a:xfrm>
            <a:off x="128520" y="5559480"/>
            <a:ext cx="504720" cy="950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hoto on 2011-10-21 at 13.53 #2.jpg"/>
          <p:cNvPicPr/>
          <p:nvPr/>
        </p:nvPicPr>
        <p:blipFill>
          <a:blip r:embed="rId4"/>
          <a:stretch/>
        </p:blipFill>
        <p:spPr>
          <a:xfrm>
            <a:off x="2109960" y="2523960"/>
            <a:ext cx="480960" cy="88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0" descr="Photo on 2011-10-21 at 13.39 #2.jpg"/>
          <p:cNvPicPr/>
          <p:nvPr/>
        </p:nvPicPr>
        <p:blipFill>
          <a:blip r:embed="rId5"/>
          <a:stretch/>
        </p:blipFill>
        <p:spPr>
          <a:xfrm>
            <a:off x="2182680" y="3273480"/>
            <a:ext cx="432000" cy="828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Photo on 2011-10-21 at 13.53 #2.jpg"/>
          <p:cNvPicPr/>
          <p:nvPr/>
        </p:nvPicPr>
        <p:blipFill>
          <a:blip r:embed="rId6"/>
          <a:stretch/>
        </p:blipFill>
        <p:spPr>
          <a:xfrm>
            <a:off x="2109960" y="3822840"/>
            <a:ext cx="480960" cy="877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baila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8" descr="Photo on 2011-10-21 at 13.46.jpg"/>
          <p:cNvPicPr/>
          <p:nvPr/>
        </p:nvPicPr>
        <p:blipFill>
          <a:blip r:embed="rId7"/>
          <a:stretch/>
        </p:blipFill>
        <p:spPr>
          <a:xfrm>
            <a:off x="2114640" y="4492800"/>
            <a:ext cx="495360" cy="95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Bien ¿Y tú? Hablamos  contigo. ¿Qué quieres hace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Photo on 2011-10-21 at 13.53 #2.jpg"/>
          <p:cNvPicPr/>
          <p:nvPr/>
        </p:nvPicPr>
        <p:blipFill>
          <a:blip r:embed="rId8"/>
          <a:stretch/>
        </p:blipFill>
        <p:spPr>
          <a:xfrm>
            <a:off x="2036880" y="5194440"/>
            <a:ext cx="474480" cy="877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2" descr="Photo on 2011-10-21 at 13.46.jpg"/>
          <p:cNvPicPr/>
          <p:nvPr/>
        </p:nvPicPr>
        <p:blipFill>
          <a:blip r:embed="rId9"/>
          <a:stretch/>
        </p:blipFill>
        <p:spPr>
          <a:xfrm>
            <a:off x="1962000" y="6016680"/>
            <a:ext cx="495360" cy="950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3" descr="Photo on 2011-11-29 at 13.54.jpg"/>
          <p:cNvPicPr/>
          <p:nvPr/>
        </p:nvPicPr>
        <p:blipFill>
          <a:blip r:embed="rId10"/>
          <a:stretch/>
        </p:blipFill>
        <p:spPr>
          <a:xfrm>
            <a:off x="83808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2"/>
          <p:cNvSpPr/>
          <p:nvPr/>
        </p:nvSpPr>
        <p:spPr>
          <a:xfrm>
            <a:off x="779040" y="601992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lan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amr</cp:lastModifiedBy>
  <dcterms:modified xsi:type="dcterms:W3CDTF">2012-12-05T21:30:47Z</dcterms:modified>
  <cp:revision>111</cp:revision>
  <dc:subject/>
  <dc:title>Profile</dc:title>
</cp:coreProperties>
</file>